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601-63BA-49DD-AF09-119736B7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47A-F505-4B6D-B20F-8C7A289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34E-8E14-420C-B67C-3198FEB3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DCD-DAD2-4F70-A0D5-C4B1D081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53D7-53FC-4B80-BBC8-81079575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8012-9FA8-4E60-BF01-02996312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BC6A-7F48-4B02-9FDC-E88E20BB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D21D-A58C-45B0-981B-6E883145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3BD0-52FE-46AA-9B45-FC20DC8A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57A4-2F31-4913-85B0-2149E5CA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DA11-22D8-4078-B388-705F8CC9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E73-1FB9-494F-AE80-99A7DFD8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E53C-A11F-4C78-A1EF-E33407C5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4405-99A2-4E63-AC8F-6CDD0FA8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497B-D292-4E36-8169-9C4B541B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0A04-4468-4810-995A-18D78F84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B9AF-62BA-4BF9-A4CC-A646C1C3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44D-F126-4353-9DF5-A87C0F0B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532-0FCC-44DC-80AB-5BF2F502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8BF-8AFB-4F72-B7EC-E545728F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721-2DB3-4B8A-93D7-B20C2049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95C-A649-4954-A6B7-0140705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0C7-3E04-47C1-BD2C-CFADAD5A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7B7-1A1D-4946-892B-51668728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6666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9333-BCCF-4D5D-96CF-74987FC24DB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6666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Perform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Storage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for representing letters or numbers using only two digits, 0 and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ferred to as Base 2 Binary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28960" y="2133720"/>
            <a:ext cx="241920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ory Measur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0 o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ilo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,0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ctly 1,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g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m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ctly 1,048,57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ig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b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r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tr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753000" cy="3417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orage Devi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4876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data when the power to the computer is turned of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um/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where data is s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mounted inside the computer’s system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tore billions of characters of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d in forms of by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gabytes or Gi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2760480" cy="299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gnetic Stor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ing of data onto disks or tape by magnetizing particles of an oxide based surface co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airly permanent type of storage that can be modif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05520" y="2633760"/>
            <a:ext cx="3429000" cy="265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608280" cy="3556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nd piece of flexible Mylar plastic covered with a thin layer of magnetic oxide and sealed inside a protective cov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referred to as a “flopp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½ disk capacity is 1.44 MB or 1,440,000 b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oppy Disk O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t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the disk for use by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-prot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the disk so that it can not be written to by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Zip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ppy disk technology manufactured by Iomeg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100 MB and 250 MB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91120" y="3581280"/>
            <a:ext cx="4267080" cy="252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gital Audio Tap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of storing large amounts of data on tape using helical scan technology to write data at high densities across the tape at an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cal Stor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s of recording data as light and dark spots on CD or DV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ing is done through a low-power laser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k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er, non-spotted surfac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puter Performan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086600" cy="476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 – Read Only Memor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alled CD-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age device that uses laser technology to read data that is permanently stored on compact disks, cannot be used to write data to a di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16200000">
            <a:off x="4587120" y="2118600"/>
            <a:ext cx="4572000" cy="307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D-RW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24320" cy="2720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4038480"/>
            <a:ext cx="7010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-Read Writ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orage device that reads data from CD’s and also can write data to CD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CD-ROM, but has the ability to write to C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VD-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Video Disks – Read Only Mem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s data from CD’s (audio and data) and DVD’s (data or mov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used to write data to a di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3657600" cy="296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ce of events that occurs between the time you turn on a computer and the time that it becomes ready to accept comma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a diagnostic test to make sure everything is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 the operating system, so the computer can carry out basic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 events of the boot proces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boot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-on self-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peripheral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 operation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 configuration and custom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th from one component of a computer to another that data uses to tra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run betw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 and the micro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 and various storag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licon Chi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licon is melted s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he circuits are embedded into to keep them toge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407040" cy="339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gahertz (mHz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asurement used to describe the speed of the system c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gahertz is equal to one million cycles (or pulses) per sec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3 GHz means that the microprocessor’s clock operates at a speed of 1.3 BILLION cycles per sec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114640"/>
            <a:ext cx="3429000" cy="369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ntiu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of the CP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tium is the 5th generation of the Intel process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enerations were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21360" y="609480"/>
            <a:ext cx="209700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M vs. 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 Mem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ility of a storage device to go directly to a specific storage location without having to search sequentially from a beginning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not hold data when the power is o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ses all data when power is l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 mem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s can read data from disks, but cannot store new data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integrated circuits that contain permanent instructions that the computer uses during the boo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4:50:07Z</dcterms:created>
  <dc:creator>Michelle Guymon</dc:creator>
  <dc:description/>
  <dc:language>en-US</dc:language>
  <cp:lastModifiedBy>Larry Phelps</cp:lastModifiedBy>
  <dcterms:modified xsi:type="dcterms:W3CDTF">2004-09-07T16:53:36Z</dcterms:modified>
  <cp:revision>75</cp:revision>
  <dc:subject/>
  <dc:title>Computer Performance Storage Devices &amp; Size</dc:title>
</cp:coreProperties>
</file>